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3C7-225F-411C-A8E9-EAAA0EEE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77F-DD25-49F2-AE4C-32227A63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862-D6BA-4D73-B359-A141FCBA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CC3-D938-4542-A197-D6EEF2EF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DB2B-F43C-4CA1-B046-FCADA6DA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3D09-D2AC-40B5-A104-2669A12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7B9C-5292-4D67-9BC7-9709181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87A-5330-4F06-8CC7-6045971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97E-9355-4C30-902F-A78959D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ACD-C103-4CC1-8AF3-526DD59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D93-02D3-4D81-8D06-057F3AF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86A-1C7A-4AAD-AE52-0A3D710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129-B9CD-40B9-89A7-1E44618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7AC7-A236-4AF4-A8B8-C475F15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B03-2FAE-44F6-BEC0-BDF0B08F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21C-3F91-40AA-B622-660A1749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CBED-E92E-41F1-99A0-D6CC3743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DC6-49D4-4EE8-8E67-7B5003C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7CB-7CF0-4F25-8FA3-5CF13E8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39E-4211-4E5B-9068-81A865FE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239-F352-46DF-B94E-C53755B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694-4064-437B-9683-0B7F833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042-CD84-421D-8114-607C1A7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A3B-B5AA-4BD7-9A52-E87DA16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1538-C510-41F8-BCD8-3CE23017C51E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8B6-57F6-4C95-8437-FF0FA52BF6CE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600" y="4827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c000"/>
                </a:solidFill>
                <a:latin typeface="Arial"/>
              </a:rPr>
              <a:t>УНИВЕРЗИТЕТ У КРАГУЈЕВЦУ</a:t>
            </a:r>
            <a:br>
              <a:rPr sz="3600"/>
            </a:br>
            <a:r>
              <a:rPr b="1" lang="sr-RS" sz="3600" spc="-1" strike="noStrike">
                <a:solidFill>
                  <a:srgbClr val="ffc000"/>
                </a:solidFill>
                <a:latin typeface="Arial"/>
              </a:rPr>
              <a:t>ФАКУЛТЕТ МЕДИЦИНСКИХ НАУКА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74480" y="2370240"/>
            <a:ext cx="796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9e6"/>
                </a:solidFill>
                <a:latin typeface="Arial"/>
              </a:rPr>
              <a:t>Молекуларне основе етиопатогенезе малигних тумора. Процес метастазирања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566640" y="43959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566640" y="43959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000"/>
                </a:solidFill>
                <a:latin typeface="Arial"/>
              </a:rPr>
              <a:t>Prof. Dr </a:t>
            </a:r>
            <a:r>
              <a:rPr b="1" i="1" lang="sr-RS" sz="3600" spc="-1" strike="noStrike">
                <a:solidFill>
                  <a:srgbClr val="ffc000"/>
                </a:solidFill>
                <a:latin typeface="Arial"/>
              </a:rPr>
              <a:t>Срђан Нинковић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Ћелијске интеракције у канцерогенези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42920" y="1173240"/>
            <a:ext cx="705636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20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Генетски и епигенетски механизми генске вулнерабилности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790720" y="1249200"/>
            <a:ext cx="408312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звој тумор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4119120"/>
            <a:ext cx="5064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имарни                Инвазивни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137280" y="4303800"/>
            <a:ext cx="209088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тастатски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28760" y="1863720"/>
            <a:ext cx="4998960" cy="23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5630760" y="1863720"/>
            <a:ext cx="32576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еханизам туморске ангиогенезе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4080" y="1986120"/>
            <a:ext cx="89056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Метастазирање тумор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8229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ктивисање инвазијa и метастазирање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871560" y="1035000"/>
            <a:ext cx="73836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4840" y="2059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ктивисање инвазијa и метастазирање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760" y="2738160"/>
            <a:ext cx="21636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Појачана пролиферација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Смањена адхезивност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90520" y="6191280"/>
            <a:ext cx="294624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Адхеренција на ендотел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Екстравазација, инвазија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Имплантација, пролиферација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метастазирање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28760" y="758880"/>
            <a:ext cx="836748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28760" y="3475080"/>
            <a:ext cx="8332560" cy="2201760"/>
          </a:xfrm>
          <a:prstGeom prst="rect">
            <a:avLst/>
          </a:prstGeom>
          <a:ln w="0">
            <a:noFill/>
          </a:ln>
        </p:spPr>
      </p:pic>
      <p:sp>
        <p:nvSpPr>
          <p:cNvPr id="223" name="Text Placeholder 2"/>
          <p:cNvSpPr/>
          <p:nvPr/>
        </p:nvSpPr>
        <p:spPr>
          <a:xfrm>
            <a:off x="3835440" y="2784600"/>
            <a:ext cx="15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Локална инвазиј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Text Placeholder 2"/>
          <p:cNvSpPr/>
          <p:nvPr/>
        </p:nvSpPr>
        <p:spPr>
          <a:xfrm>
            <a:off x="6459480" y="2922480"/>
            <a:ext cx="244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Континурана ћелијска пролиферациј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Ангиогенез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8346960" y="2784600"/>
            <a:ext cx="343080" cy="571320"/>
          </a:xfrm>
          <a:prstGeom prst="rect">
            <a:avLst/>
          </a:prstGeom>
          <a:ln w="0">
            <a:noFill/>
          </a:ln>
        </p:spPr>
      </p:pic>
      <p:sp>
        <p:nvSpPr>
          <p:cNvPr id="226" name="Text Placeholder 4"/>
          <p:cNvSpPr/>
          <p:nvPr/>
        </p:nvSpPr>
        <p:spPr>
          <a:xfrm>
            <a:off x="3743280" y="6006960"/>
            <a:ext cx="1519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Интравзациј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Циркулација у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крвној струји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Text Placeholder 4"/>
          <p:cNvSpPr/>
          <p:nvPr/>
        </p:nvSpPr>
        <p:spPr>
          <a:xfrm>
            <a:off x="5630760" y="6006960"/>
            <a:ext cx="2946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Text Placeholder 4"/>
          <p:cNvSpPr/>
          <p:nvPr/>
        </p:nvSpPr>
        <p:spPr>
          <a:xfrm>
            <a:off x="7058160" y="5961240"/>
            <a:ext cx="115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Стромална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инвазиј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Метастатском геному рака потребно је да се развија деценијама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76280" y="1600200"/>
            <a:ext cx="819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лога инфламаторних ћелија у канцерогенези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073160" y="1081080"/>
            <a:ext cx="72118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74840" y="574560"/>
            <a:ext cx="822960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сва туморска ткива су инфилтрисана ћелијама имунолошког система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сматрало се да је то покушај имунолошког система да укони туморске ћелије 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међутим инфламаторна реакција стимулише онкогенезу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вазодилатација се карактерише повећаним протоком крви и повећаном пермеабилношћу ендотела са екстравазацијом протеина и леукоцита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инфламаторни цитокини директно стимулишу секрецију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селектина  или алтернативно кадхерина-1 на површини ендотелних ћелија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на њих се вежу карбохидратни лиганди леукоцита што доводи до њихове адхеренције на ендотел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 имуноглобулински лиганди (адхезионе молекуле) </a:t>
            </a: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ICAM-1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 VCAM-1</a:t>
            </a:r>
            <a:r>
              <a:rPr b="0" lang="sr-RS" sz="1800" spc="-1" strike="noStrike">
                <a:solidFill>
                  <a:srgbClr val="faf9e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су појачано експримисане на површини ендотела теже да имобилишу леукоците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 леукоцити се затим вежу за туморске ендотелне ћелије преко интегринских рецептора за имуноглобулинске лиганде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Arial"/>
              </a:rPr>
              <a:t>Карактеристике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арцином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12720" y="1351080"/>
            <a:ext cx="7918560" cy="502920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67160" y="1403280"/>
            <a:ext cx="2290680" cy="459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Нестабилност генома и мутације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257480" y="1955880"/>
            <a:ext cx="239364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Избегавање имунолошког </a:t>
            </a:r>
            <a:br>
              <a:rPr sz="1200"/>
            </a:b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одговора </a:t>
            </a: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sr-RS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5584680" y="1955880"/>
            <a:ext cx="239400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Резистентност на апоптозу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6091200" y="2968560"/>
            <a:ext cx="239400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Перманентност пролиферишућих сигнал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Title 1"/>
          <p:cNvSpPr/>
          <p:nvPr/>
        </p:nvSpPr>
        <p:spPr>
          <a:xfrm>
            <a:off x="6183360" y="4027320"/>
            <a:ext cx="225576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Избегавање супресора раста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5584680" y="5086440"/>
            <a:ext cx="225612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Омугућење репликативности без апоптотичности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3421080" y="5730840"/>
            <a:ext cx="225576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Индуковање ангиогенезе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257480" y="5086440"/>
            <a:ext cx="225576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Активисање инвазије и метастазирање </a:t>
            </a: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658800" y="4073400"/>
            <a:ext cx="234792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Репрограмирање енергетског метаболизма </a:t>
            </a: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704880" y="2968560"/>
            <a:ext cx="2255760" cy="527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00"/>
                </a:solidFill>
                <a:latin typeface="Arial"/>
              </a:rPr>
              <a:t>Инфламацијом стимулисана канцерогенеза </a:t>
            </a:r>
            <a:r>
              <a:rPr b="1" lang="sr-RS" sz="1200" spc="-1" strike="noStrike">
                <a:solidFill>
                  <a:srgbClr val="ff0066"/>
                </a:solidFill>
                <a:latin typeface="Arial"/>
              </a:rPr>
              <a:t>9.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625680" y="1357200"/>
            <a:ext cx="2213640" cy="36828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af9e6"/>
                </a:solidFill>
                <a:latin typeface="Arial"/>
              </a:rPr>
              <a:t>Репрограмирање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760" y="98856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Миграција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кроз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ендотел настаје процесом дијапедезе, где градијенти хемокина стимулишу да се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адхерисани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леукоцити крећу између ендотелних ћелија и пролазе кроз базалну мембрану у околна ткива.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ретање леукоцита у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нутар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ткива настаје путем хемотак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е, где хемоатрактан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условљавају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леукоците да се крећу дуж хемотактичких градијената према извору хемокин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унутар тумора.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унутар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ткивног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интерстициј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у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, леукоцити се везују за протеине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 интерцелуларног матрикс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путем интегрина и CD44 </a:t>
            </a: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молекуле како би се одржала њихова локална концентрација. 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поред медијатора целуларног порекла неки ацелуларни каскадни системи састављени од преформираних плазматских протеина делују паралелноу иницијацији и пропагацији инфламације (систем комплемента, коагулациони и фибринолитички систем, фактори раста и проангиогени фактори)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Arial"/>
              </a:rPr>
              <a:t>- ослобађање реактивних врста кисеоника и азота делују мутагено акцелеришу туморски раст и прогресију карцинома.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оматске мутације COLO-829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984320" y="1600200"/>
            <a:ext cx="5175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600" y="531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Сигнални путеви и процеси. (12) 12 путева и процеса чијe су </a:t>
            </a:r>
            <a:r>
              <a:rPr b="0" lang="sr-RS" sz="1600" spc="-1" strike="noStrike">
                <a:solidFill>
                  <a:srgbClr val="ffff00"/>
                </a:solidFill>
                <a:latin typeface="Arial"/>
              </a:rPr>
              <a:t>генске компоненте измењене код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карцином</a:t>
            </a:r>
            <a:r>
              <a:rPr b="0" lang="sr-RS" sz="1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панкреаса. (B, C) Два карцинома панкреаса (Pa14C и Pa10 X) и специфични гени који </a:t>
            </a:r>
            <a:r>
              <a:rPr b="0" lang="sr-RS" sz="1600" spc="-1" strike="noStrike">
                <a:solidFill>
                  <a:srgbClr val="ffff00"/>
                </a:solidFill>
                <a:latin typeface="Arial"/>
              </a:rPr>
              <a:t>су у њима мутирани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. Положаји </a:t>
            </a:r>
            <a:r>
              <a:rPr b="0" lang="sr-RS" sz="1600" spc="-1" strike="noStrike">
                <a:solidFill>
                  <a:srgbClr val="ffff00"/>
                </a:solidFill>
                <a:latin typeface="Arial"/>
              </a:rPr>
              <a:t>у круговима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у (B) и (C) одговарају путевима и процесима у (А).</a:t>
            </a:r>
            <a:endParaRPr b="0" lang="en-US" sz="1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65320" y="252360"/>
            <a:ext cx="658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енетика карцином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02920"/>
            <a:ext cx="40402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Аутозомно доминантно наслеђивање</a:t>
            </a: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4720" y="1310760"/>
            <a:ext cx="4041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Аутозомно рецесивно наслеђивање</a:t>
            </a: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44440" y="3290760"/>
            <a:ext cx="4040280" cy="1832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341960" y="3244680"/>
            <a:ext cx="3120840" cy="1938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7472520" y="3244680"/>
            <a:ext cx="15192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Хередитарни карциномски синдроми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17680" y="988920"/>
            <a:ext cx="83246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иказ анализа канцерског генома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809720" y="988920"/>
            <a:ext cx="583092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Клиничке карактеристике метастатске болести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797040" y="1357200"/>
            <a:ext cx="74595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Терапијски механизми у онкологији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843120" y="942840"/>
            <a:ext cx="77151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6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sr-RS" sz="6600" spc="-1" strike="noStrike">
                <a:solidFill>
                  <a:srgbClr val="ffff00"/>
                </a:solidFill>
                <a:latin typeface="Arial"/>
              </a:rPr>
              <a:t>Хвала на пажњи !</a:t>
            </a:r>
            <a:endParaRPr b="0" lang="en-US" sz="66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Arial"/>
              </a:rPr>
              <a:t>Карактеристике </a:t>
            </a:r>
            <a:r>
              <a:rPr b="0" lang="sr-RS" sz="4400" spc="-1" strike="noStrike">
                <a:solidFill>
                  <a:srgbClr val="ffff00"/>
                </a:solidFill>
                <a:latin typeface="Arial"/>
              </a:rPr>
              <a:t>карцином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49280" y="1096920"/>
            <a:ext cx="6399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могућавање процеса канцерогенезе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12720" y="1541520"/>
            <a:ext cx="8244000" cy="4649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704880" y="3935520"/>
            <a:ext cx="2519280" cy="7491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Arial"/>
              </a:rPr>
              <a:t>Нестабилност генома и мутације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6275520" y="3981600"/>
            <a:ext cx="2439720" cy="828360"/>
          </a:xfrm>
          <a:prstGeom prst="rect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Инфламацијом стимулисана канцерогенеза </a:t>
            </a:r>
            <a:r>
              <a:rPr b="1" lang="sr-R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051800" y="324468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генома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467160" y="5316480"/>
            <a:ext cx="2676600" cy="825480"/>
          </a:xfrm>
          <a:prstGeom prst="rect">
            <a:avLst/>
          </a:prstGeom>
          <a:solidFill>
            <a:srgbClr val="c5c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омена својстав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484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хватање канцерогенезе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4480" y="1955520"/>
            <a:ext cx="3130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мплификовано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49440" y="20016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овито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22280" y="3284640"/>
            <a:ext cx="3375000" cy="2216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973680" y="3060720"/>
            <a:ext cx="49813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ешће различитих стромалних ћелија у канцерогенези</a:t>
            </a:r>
            <a:endParaRPr b="0" lang="en-US" sz="2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809720" y="1000080"/>
            <a:ext cx="59850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ишеетапна прогресија тумора као серија колонске експанзије и сукцесивне генске промене</a:t>
            </a:r>
            <a:endParaRPr b="0" lang="en-US" sz="2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20840" y="1449360"/>
            <a:ext cx="85518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44440" y="666360"/>
            <a:ext cx="4005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егулација ћелијског циклуса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3800" y="850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rbB фамилија и лиганди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44440" y="1633680"/>
            <a:ext cx="4032360" cy="480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479840" y="2324160"/>
            <a:ext cx="44434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Репрограмирање ћелијског циклуса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60400" y="1170000"/>
            <a:ext cx="7302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32:58Z</dcterms:created>
  <dc:creator>Korisnik</dc:creator>
  <dc:description/>
  <dc:language>en-US</dc:language>
  <cp:lastModifiedBy>bojan</cp:lastModifiedBy>
  <dcterms:modified xsi:type="dcterms:W3CDTF">2020-03-07T06:57:54Z</dcterms:modified>
  <cp:revision>216</cp:revision>
  <dc:subject/>
  <dc:title>Hiperglikemija i ED</dc:title>
</cp:coreProperties>
</file>